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0C275-2E7A-4659-815E-667B2423E8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D8D7F-49F7-4BD0-9D2B-3E68EC5C8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3D404-9502-4A36-B6F4-992AEEAAC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E0B15-1E30-4FB4-A8E4-CB3045E15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20129-B83B-4CD3-B07A-EA492184B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003173-B281-45C7-9C1C-1844441A33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33FD81-685C-430B-A88F-47472C57E6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5A6592-D31C-4154-9F9D-9EDCF8F65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B7591-B6E8-4444-94F4-12B1A5026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1CE1C-A878-4101-96DE-F14D2D53AD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9E2CA6-DC8A-4508-AAAD-23D6546BFD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1934B8-6614-4904-87A7-5ED914D20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2EC377-8837-4329-825A-E74C5157F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6BA-A3FC-49E3-91B2-4E0D8035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61F-C580-4174-8A9F-F63FBF76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C323-02D1-46AE-871A-A5C59D40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5FBB-711A-4E0A-A00F-FBE4B7110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AE6E-BAC5-4FC5-A6B2-0F3CF741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1CC9-F7CC-49F2-9E64-11E24A8C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4E02-A148-4EC2-8731-742376F5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176D-8D26-4FDB-9FC4-1A256B40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F0A8-14F7-4EF0-B800-FC9A30781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98C-BCBA-4E1D-9AD0-5C85E5CC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C009-1C66-4044-B100-6128B9F7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257F-6C63-4288-884E-6A2FB66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41287-0747-415C-82E9-8D9773051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8AC71-D628-4CD3-9AD6-30B8846AF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dschilder@eval-inc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alibri"/>
              </a:rPr>
              <a:t>Local Evaluation Overview and Preliminary Find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f81bd"/>
                </a:solidFill>
                <a:latin typeface="Calibri"/>
              </a:rPr>
              <a:t>Diane Schilder, Ed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Offer online workshop simultaneously with content cours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hands on workshop for teachers learning Web 2.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teachers opportunities to share ideas about hands 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ntinue to observe sample of classroo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nalyze data and submit reports to the Department of Elementary and Secondary Educ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rovide formative feedback to project leaders to inform improvements in subsequent cours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Next Ste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1680" y="1294920"/>
            <a:ext cx="8572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ntact me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schilder@eval-inc.com</a:t>
            </a:r>
            <a:r>
              <a:rPr b="0" lang="en-US" sz="2000" spc="-1" strike="noStrike" u="sng">
                <a:solidFill>
                  <a:srgbClr val="030303"/>
                </a:solidFill>
                <a:uFillTx/>
                <a:latin typeface="Calibri"/>
              </a:rPr>
              <a:t> or 617-816-2026 to schedule observ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end me an example lesson plan PRIOR to your participation so I can compare with lesson you developed for the cours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hare student assessment data with me by sending summary by email or sending to me 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Diane Schil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EAS, In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1 Mifflin Place, Suite 4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30303"/>
                </a:solidFill>
                <a:latin typeface="Calibri"/>
              </a:rPr>
              <a:t>Cambridge, MA 0213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Notify the TLCD’s of the date and time you will be implementing your less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4"/>
          <p:cNvSpPr/>
          <p:nvPr/>
        </p:nvSpPr>
        <p:spPr>
          <a:xfrm>
            <a:off x="8380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of 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urpose of the evalu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Document impact of project on teachers and stude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Calibri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000" spc="-1" strike="noStrike">
                <a:solidFill>
                  <a:srgbClr val="030303"/>
                </a:solidFill>
                <a:latin typeface="Calibri"/>
              </a:rPr>
              <a:t>Note: Evaluation is focused on the project and not individual teachers or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Collect and report data about project activities so leaders can improve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Report findings to State Department of Elementary and Secondary Education, TRITEC and participating distri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920" y="1294920"/>
            <a:ext cx="7696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30303"/>
                </a:solidFill>
                <a:latin typeface="Calibri"/>
              </a:rPr>
              <a:t>Method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Participate in regular project-related meetings and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Survey participating and comparison teach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ssessments of teacher content knowledge and pedagogical approaches (pre and p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Observations of a sample of teachers’ classrooms and of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Assessments of students in classrooms of participating and comparison stud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Line 4"/>
          <p:cNvSpPr/>
          <p:nvPr/>
        </p:nvSpPr>
        <p:spPr>
          <a:xfrm>
            <a:off x="129528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fidence Using Technology for Teaching and Learning Increa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Line 4"/>
          <p:cNvSpPr/>
          <p:nvPr/>
        </p:nvSpPr>
        <p:spPr>
          <a:xfrm>
            <a:off x="312840" y="1608120"/>
            <a:ext cx="837396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066680" y="2048040"/>
            <a:ext cx="654696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nfidence Using Technology for Teaching and Learning Increas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Line 4"/>
          <p:cNvSpPr/>
          <p:nvPr/>
        </p:nvSpPr>
        <p:spPr>
          <a:xfrm>
            <a:off x="730080" y="141768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Chart 6" descr=""/>
          <p:cNvPicPr/>
          <p:nvPr/>
        </p:nvPicPr>
        <p:blipFill>
          <a:blip r:embed="rId1"/>
          <a:stretch/>
        </p:blipFill>
        <p:spPr>
          <a:xfrm>
            <a:off x="725400" y="1768320"/>
            <a:ext cx="75106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dagogical Techniques Chang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30120" y="1143000"/>
            <a:ext cx="789948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hart 4" descr=""/>
          <p:cNvPicPr/>
          <p:nvPr/>
        </p:nvPicPr>
        <p:blipFill>
          <a:blip r:embed="rId1"/>
          <a:stretch/>
        </p:blipFill>
        <p:spPr>
          <a:xfrm>
            <a:off x="603360" y="2054160"/>
            <a:ext cx="7632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tent Knowledge Increas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Line 4"/>
          <p:cNvSpPr/>
          <p:nvPr/>
        </p:nvSpPr>
        <p:spPr>
          <a:xfrm>
            <a:off x="5778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hart 5" descr=""/>
          <p:cNvPicPr/>
          <p:nvPr/>
        </p:nvPicPr>
        <p:blipFill>
          <a:blip r:embed="rId1"/>
          <a:stretch/>
        </p:blipFill>
        <p:spPr>
          <a:xfrm>
            <a:off x="2279520" y="2054160"/>
            <a:ext cx="458496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ve Impact Repo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Line 4"/>
          <p:cNvSpPr/>
          <p:nvPr/>
        </p:nvSpPr>
        <p:spPr>
          <a:xfrm>
            <a:off x="5778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Chart 5" descr=""/>
          <p:cNvPicPr/>
          <p:nvPr/>
        </p:nvPicPr>
        <p:blipFill>
          <a:blip r:embed="rId1"/>
          <a:stretch/>
        </p:blipFill>
        <p:spPr>
          <a:xfrm>
            <a:off x="1238400" y="1414440"/>
            <a:ext cx="624816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sitive Impact Repo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8445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ncrease in biology content knowled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30303"/>
                </a:solidFill>
                <a:latin typeface="Verdana"/>
                <a:ea typeface="Verdana"/>
              </a:rPr>
              <a:t>I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loved learning about cells and genetics at a deeper lev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was challenged to learn the latest in the field of biology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ncrease in knowledge of Web 2.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gained the ability to use technology in a way that I am comfortable and confid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From the class I now have a greater understanding of how to develop a website and wiki activit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liked seeing the different Web 2.0 tools that are available to use in the classroom. My favorites were the Quizlet and Zoho Challenge sites that I learned abou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-274680">
              <a:lnSpc>
                <a:spcPct val="90000"/>
              </a:lnSpc>
              <a:spcBef>
                <a:spcPts val="499"/>
              </a:spcBef>
              <a:buClr>
                <a:srgbClr val="030303"/>
              </a:buClr>
              <a:buFont typeface="Times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30303"/>
                </a:solidFill>
                <a:latin typeface="Calibri"/>
              </a:rPr>
              <a:t>Improvements in teaching students biology content using technolo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90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Verdana"/>
                <a:ea typeface="Verdana"/>
              </a:rPr>
              <a:t>I loved learning about cells and genetics at a deeper level, but I also loved learning about how to become a better science teacher through the use of technology.  The on-line workshops were time consuming, but I learned a lot from them.  I know my students would do the same and it provides a great way to differentiate the learning because students can learn using different strategies and at their own pac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07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98400" y="1143000"/>
            <a:ext cx="7391520" cy="0"/>
          </a:xfrm>
          <a:prstGeom prst="line">
            <a:avLst/>
          </a:prstGeom>
          <a:ln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6:32:35Z</dcterms:created>
  <dc:creator>Diane Schilder</dc:creator>
  <dc:description/>
  <dc:language>en-US</dc:language>
  <cp:lastModifiedBy>Robert Simpson</cp:lastModifiedBy>
  <cp:lastPrinted>2011-09-26T18:28:51Z</cp:lastPrinted>
  <dcterms:modified xsi:type="dcterms:W3CDTF">2011-09-26T19:54:28Z</dcterms:modified>
  <cp:revision>20</cp:revision>
  <dc:subject/>
  <dc:title>Local Evaluation Overview</dc:title>
</cp:coreProperties>
</file>